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96FD-D011-46B2-92F2-D551932B7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volution of egalitarianis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d of the Revolution eliminated most of the Loyalist aristocra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quality was the mod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lea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suffrage requirements (more is bette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paration of church and st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llenges to slavery, race relations, and role of wo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ivic Virtu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mocracy dependent upon the commitment of each citizen to the common good – who better but Mothers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publican Motherho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Keeper of the conscience – why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le as moral referee and civic educator for young m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pular sovereignty vs. strong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ill of Rights, strong legislatures, weak executive and judi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wer to the 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flation, lack of products, lack of markets, end of monopolies and subsidiz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cline in standard of liv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ack of common foc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struction of propert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sregard for rule of la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346-9572-4FF8-84C8-2E1EEA41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268-BBD4-44E3-B9FF-7C583F93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68B-D305-4196-A875-7C62AF6D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C08-623D-40F0-96B9-F71BBADA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33C37-DBAF-4D08-845B-60DA7630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DC07F-51A0-4D44-B760-371E61FB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0BA68-4A7C-4CC7-B09B-99227778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F73A3-37EE-4A0D-9CB1-50CFF994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BA92C-BE7F-42F3-8032-556E74FE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6A364-BBA3-433A-AC20-0E7237EA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AF36E-FE60-4567-81DC-112B029B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CF5-2CA0-4DCA-8005-F6FBDBE9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84719-1F3C-4646-A445-395CAEAA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45B72-DE37-4C0C-AA2F-98DB1CB3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40A34-EBB5-4879-A9D2-B0A3F1BA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E7396-0758-478E-865C-E87913E7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2D2D9-9CF8-407F-A573-D8C5C0B2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6F4-E519-40C2-871F-03123B18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2BB-36EB-47ED-A7D2-04CDB3DB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829B-2300-4681-ABBD-5FFF7D1B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66A-1C20-4E6D-ACA2-1B342D07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3FF-794F-4CB1-BD14-A5FD73C6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FF4-539E-4106-A3F8-33A5F167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404-3819-4D6B-9640-835088F0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18B1-E545-4744-BB48-4CAF0AE876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6E1A-2A10-4691-B5F3-76A3E77188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533520"/>
            <a:ext cx="76201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P REVIEW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LONIZATION T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CONSTR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re Coloni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w York – Had been New Netherland until Dutch were overtake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orgia – Debtor colony created to allow repayment through wor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gional Differences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uther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glican, single crop, rural, labor dependent, shorter life sp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Engla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st religious, urban &amp; rural combination, diverse economy, longer life span, lowest labor nee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idd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uly middle, tolerant, independent, diverse economy, lower labor nee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lationship between the Colonies and Britai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licy of salutary neglect stimulates autonomy and self-government while fueling mercantilis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ole and Purpose of Navigation Ac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uropean struggles for power move to Amer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rench Indian War – Ohio Valle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bany Plan – Common Defense against Frenc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eaty of Paris 1763 – No French in North A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lamation of 1763 – No colonists west of Appalachian Mountai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-Revolution Issu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s for Reven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ar Act (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mp Act (Most protest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wnshend Ac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s for Contro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uartering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laratory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tolerable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onial respons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mp Act Congr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ston Massac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ns of libe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ston Tea Pa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mittees of correspon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/ Second Continental Congr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ar for American Independenc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 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paganda – Committees of Corresponden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ilitia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laration of Independen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live Branch Peti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paring the Combat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lonists ill equipped, poorly trained and led but have HOME FIELD and a motivating cau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ritish have best trained and funded army in the world fighting far from home with weak leader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volutionary Ideology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lightenment, Egalitarianism, Civic Virtu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irth of ‘Republican Motherhood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jor issues in the new Republic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ole of popular sovereign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conomic atmosphe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cial atmosphe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utcomes of American Revol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eaty of Paris 178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dependence / Territory / Resumption of T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Govern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ticles of Confede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ak = no executive, no power to tax, collect, or borrow, no power to regulate trade (BIG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W Ordina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ules for territories / statehoo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blems lead to Constitutional Conven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ay’s Rebell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reation of a Constitu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romise = Ke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J Plan:   Articles of Conf with more pow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A Plan:  Three branches, bicameral leg, proportional rep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eat (Connecticut) Compromise:  Proportional rep + uniform rep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/5 Compromise:  Settles rep and tax status of sla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slave discussion till 180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doption of the Constitu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ederalist vs. Antifederali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ill of Righ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TECT INDIVIDUAL LIBERTIES FROM A STRONG GOVERNME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W – First Presid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Jefferson vs. Hamilto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terpretation, Assumption, National Bank, Formation of two-party system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ey actions (Whiskey Rebellion, Jay’s Treaty, Pinckney’s Treaty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ments of Farewell Addres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2 John Adam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 GW – more intellectual but no charism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deralist Agend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ace (X,Y,Z and Convention of 1800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iminate opposition (Alien &amp; Sedition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Y / VA resolutions = nullif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ck the courts (Judiciary Act of 1801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arbury v. Madis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-Colonial Americ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ain – dominant European pow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quistadors – 3 G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mallpox and the start of slaver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3 Thomas Jeffers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volution of 180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gacy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uisiana Purchase / Lewis &amp; Clar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aves federalist programs inta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aves problem with France/Britain to Madison (Embargo of 1807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#4 James Madison /#5 James Monro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DIS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con’s Bill No 2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ar of 181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it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rtford Conven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eaty of Gh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riff of 1816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tectionism!!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RO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nry Clay – American Syste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nic of 1819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issouri Compromi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roe Doctri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John Marshall and the Supreme Cour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ey Decision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cCulloch v. Maryland – National Bank vs. states righ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bbons v. Ogden – Congress only has power to regulate interstate commer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artmouth v. Woodward – protects contracts against domination from state governm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d Supreme Court to define and support Federal govern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d Supreme Court to limit popular control and foster a stable business commun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6 John Quincy Adam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rrupt Bargain (Clay = Sec of Stat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riff of 1828 (Tariff of Abominatio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litical football – Scheme to create lose/lose for Ada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 oks to protect industr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uth deeply upset – major consumers of manufactured good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tential intrusion into slavery – loss of prestige/power in federal governme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houn authors “The Exposition” – V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licies increase voter turnout and create the “Era of the Common Man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7 Andrew Jacks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de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effersoni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gs to rich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oils syste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ecutive leadershi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ion fir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llification cris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C vs. U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dian relo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ole of the Supreme Cour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nk of U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830s-1860: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estward Expansion &amp; Sectionalism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inciples that caused territorial expansion between 1815 and 1860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ce sectionalism from 1810-1850 through the careers of Clay, Calhoun, and Webster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nifest Destiny and the road to war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act of Manifest Destiny on both foreign affairs and domestic politics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y was Oregon annexed peacefully, but not Texas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sidents #8-1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VB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rris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yl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l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yl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llmo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er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chan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eople and Ev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Great Awakening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mon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seph Smith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igham Young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manticism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anscendentalism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lph Waldo Emerso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nry David Thoreau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ook Farm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aker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eida Community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thanial Hawthorn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eranc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rothea Dix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race Man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mke Sister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ucretia Mott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izabeth Cady Stanto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neca Falls Convention (1848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san B. Anthony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re People and Ev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illiam Lloyd Garriso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Liberator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ederick Douglas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rriet Tubma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journer Truth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ig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nifest Destin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ephen Austi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am Housto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anta Ana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bster-Ashburton Treaty (1842)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old Rush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amuel F. B. Morse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romise of 1850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ugitive Slave Law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nderground Railroa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rriet Beecher Stowe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ansas-Nebraska Act (1854)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now-Nothing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red Scott Decis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Peculiar Institu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lavery from the viewpoint of the slave, the slaveholder, and the non-slaveholding white Southerner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issue of slavery in the territorie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the black struggle to achieve freedom with the abolitionist struggle to free slave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lacks in the North: 1790-1860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illiam Lloyd Garrison--&gt;hero or villain of the antislavery movement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Civil War began with the Mexican War!?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rtherners objected not to slaves but to the political and economic power and influence slavery gave the slaveholder in the national government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vent, person, or place as a symbol of North-South division, such as Bleeding Kansas, John Brown, or the Crittenden Compromise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uthern grievances against the North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arly  English Settlem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amestown – 1606 (Virginia Compan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Joint-stock company: a group of investors who bought the right to establish New World plantations from the king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nglish not prepared – high death rates from starvation and disease (wife jerk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dian relations – one sided benefi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nd waster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King Philip’s War – last chance for NE India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Peculiar Institution II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rth-South economic differences before the Civil War that continued unresolved after it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1850s--&gt;a decade of political sectionalism and economic nationalism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le of the Supreme Court in the Civil War and Reconstruction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reakdown of both the Whig and Democratic parties in the 1850s and rise of the third party system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truggle between the president and Congress for dominant political power within the federal government, 1850-1868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tates’ rights from 1790-1860 for all the section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hen did the Civil War become inevitable and why?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hat causes of the Civil War were resolved by the Civil War and Reconstruction?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as the Republican Party consistent in its policies from the 1850s to 1877?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ccomplishments and failures of Reconstruction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838080"/>
            <a:ext cx="8305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owth of Virginia (Chesapeake Region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ohn Rolfe – King tobacco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acts of succe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s need for more land = end of India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s need for more labor = indentured serv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fitability draws more colonis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gins southern single crop depen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rony of 161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irginia House of Burgess (first step to self-gov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rst shipment of African slav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ilgrims and Mass Bay Compan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ritan movement in England creates need for new relig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paratists leave England to create a new community in the Americas – Mayflower 1620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yflower Compact – governments power comes from the consent of the govern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ss Bay Colon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SU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gregationalists and Separatists do not tolerate religious freedom (IRONIC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ger Williams banished (creates Rhode Island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ne Hutchinson banished for preaching antinomianism (‘SAVED’ NEED NOT FOLLOW MAN’S LAW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chcraft Trials – result of social and religious tens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velopment of Proprietary  Colonies (Gifts from the King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yland – Lord Baltimore (Catholic) – created as a haven for Catholics became partially tolerant of Protestants (1649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nnsylvania – William Penn and the Quak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acifist, tolerant (religious and Native American)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rolin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rth Carolina (resembles Virginia but more independent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uth Carolina – settled by Englishmen from Barbados – slave trade ris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ntually most proprietary colonies returned to royal ownershi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 Confederation leads to Dominion of N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rowth of American Slaver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dentured Serva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imary source of labor until Bacon’s rebell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adright syste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frican Sla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 expensive with similar contracts to indentured serv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velops into ‘modern’ version with elimination of rights and permanent (hereditary) status as prope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85345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90720"/>
            <a:ext cx="91440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9:28:46Z</dcterms:created>
  <dc:creator>Joeb</dc:creator>
  <dc:description/>
  <dc:language>en-US</dc:language>
  <cp:lastModifiedBy>School District U46</cp:lastModifiedBy>
  <dcterms:modified xsi:type="dcterms:W3CDTF">2009-01-12T13:08:15Z</dcterms:modified>
  <cp:revision>90</cp:revision>
  <dc:subject/>
  <dc:title>PowerPoint Presentation</dc:title>
</cp:coreProperties>
</file>